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F0FE-B0A8-41AC-94B7-083F627D3A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98528-5595-4E4B-8067-B3036E0556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7F25E-A5DE-482D-BA85-21005041B9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98775-C091-49BD-8FE5-F76653B627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A0C31-B651-4551-A1D0-60837C1DD4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6769F-5E69-41C6-9DA2-4F2D864563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BA5A4-99A5-46AB-867D-C348D48D7F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83F88-AC3E-4E18-9B32-73B641C7DB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E1537-7576-48D3-AB1B-C692F818BC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A7C72-D5D7-4227-84D6-BF030109A8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32D59-86F7-417E-BEC2-3B1CEFA01D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D7AC-02D4-4DF5-856E-CFBCC91B0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C14B-96E0-498A-AA4F-56A8D60AB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D0E1-9BEF-45B7-8E52-043F7C62E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02DF-5CBF-44F8-B5AE-033122288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2CBD-0238-4062-BF84-4B42B4120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428A-7F98-44B9-A489-ED05CBB6A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C3F8-ED48-49B5-A6EC-530606DF8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BB88-6285-468A-8FB9-D3A3BE414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BE03-1C5A-49EA-BE63-C937F4ECE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B5D7-684E-4267-9D33-DE91F29E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0A5A-E8EB-470F-89BC-FDCFD959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0DA0-088B-4868-98C7-B3C7E909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FE2FA-F695-47D3-BC36-49EE2B02D7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000" y="1341000"/>
            <a:ext cx="75596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c7ab2"/>
                </a:solidFill>
                <a:latin typeface="Verdana"/>
              </a:rPr>
              <a:t>Features</a:t>
            </a:r>
            <a:r>
              <a:rPr b="0" lang="en-US" sz="4000" spc="-1" strike="noStrike">
                <a:solidFill>
                  <a:srgbClr val="3c7ab2"/>
                </a:solidFill>
                <a:latin typeface="Verdana"/>
              </a:rPr>
              <a:t> and Upd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95640" y="2421000"/>
            <a:ext cx="44640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ative UTF-8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novative user interface to simplify everyday tas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nhanced Photo Gallery 2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indows-style control panel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asy-to-follow wiz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owerful and lightweight WYSIWI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w toolbar pa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w installation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01"/>
          <p:cNvPicPr/>
          <p:nvPr/>
        </p:nvPicPr>
        <p:blipFill>
          <a:blip r:embed="rId1"/>
          <a:stretch/>
        </p:blipFill>
        <p:spPr>
          <a:xfrm>
            <a:off x="179280" y="2565360"/>
            <a:ext cx="312444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1413000"/>
            <a:ext cx="76327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c7ab2"/>
                </a:solidFill>
                <a:latin typeface="Verdana"/>
              </a:rPr>
              <a:t>Web2.0 To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684000" y="2707920"/>
            <a:ext cx="381636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tended AJAX support in compon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mproved tag clou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eb services (SOA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cial networking features (forum, blogs communit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aptive user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tag_cloud"/>
          <p:cNvPicPr/>
          <p:nvPr/>
        </p:nvPicPr>
        <p:blipFill>
          <a:blip r:embed="rId1"/>
          <a:stretch/>
        </p:blipFill>
        <p:spPr>
          <a:xfrm>
            <a:off x="4643280" y="2637000"/>
            <a:ext cx="4248360" cy="30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31640" y="1267920"/>
            <a:ext cx="68403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c7ab2"/>
                </a:solidFill>
                <a:latin typeface="Verdana"/>
              </a:rPr>
              <a:t>New Toolbar Pan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71640" y="3357360"/>
            <a:ext cx="64800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indows Vista sty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“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art” but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Quick access to any system 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cently visited p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avori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ynamic resource load (AJA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pic2"/>
          <p:cNvPicPr/>
          <p:nvPr/>
        </p:nvPicPr>
        <p:blipFill>
          <a:blip r:embed="rId1"/>
          <a:stretch/>
        </p:blipFill>
        <p:spPr>
          <a:xfrm>
            <a:off x="971640" y="2421000"/>
            <a:ext cx="714204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4920" y="1125000"/>
            <a:ext cx="82803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c7ab2"/>
                </a:solidFill>
                <a:latin typeface="Verdana"/>
              </a:rPr>
              <a:t>Vista-like Start Button in Menu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start_b"/>
          <p:cNvPicPr/>
          <p:nvPr/>
        </p:nvPicPr>
        <p:blipFill>
          <a:blip r:embed="rId1"/>
          <a:stretch/>
        </p:blipFill>
        <p:spPr>
          <a:xfrm>
            <a:off x="3995640" y="2492280"/>
            <a:ext cx="4321440" cy="27529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7"/>
          <p:cNvSpPr/>
          <p:nvPr/>
        </p:nvSpPr>
        <p:spPr>
          <a:xfrm>
            <a:off x="735120" y="193680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611280" y="2421000"/>
            <a:ext cx="31687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Start button provides a quick access to all site management tool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w there is no need to open Control Panel to reach the needed Bitrix Site Manager too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000" y="1341000"/>
            <a:ext cx="813564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c7ab2"/>
                </a:solidFill>
                <a:latin typeface="Verdana"/>
              </a:rPr>
              <a:t>Edit-in-place Content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042920" y="3068280"/>
            <a:ext cx="71294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Editor Mode enables you to perform content management operations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from the Public section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reating and editing of both static and dynamic conten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ag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ws, catalog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te menu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rm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ore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YSIWIG editor is simplified and greatly speeded u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125360"/>
            <a:ext cx="820728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c7ab2"/>
                </a:solidFill>
                <a:latin typeface="Verdana"/>
              </a:rPr>
              <a:t>Creating a Page in Editor Mo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pic4_1"/>
          <p:cNvPicPr/>
          <p:nvPr/>
        </p:nvPicPr>
        <p:blipFill>
          <a:blip r:embed="rId1"/>
          <a:stretch/>
        </p:blipFill>
        <p:spPr>
          <a:xfrm>
            <a:off x="3851280" y="2492280"/>
            <a:ext cx="4753080" cy="29829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9"/>
          <p:cNvSpPr/>
          <p:nvPr/>
        </p:nvSpPr>
        <p:spPr>
          <a:xfrm>
            <a:off x="324000" y="2492280"/>
            <a:ext cx="33843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simple and user-friendly wizard enables content editors to create a page in any site section and make it available from the site men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tent editors can also add news, catalog, and other content blocks on the pa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18760" y="1278000"/>
            <a:ext cx="765324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c7ab2"/>
                </a:solidFill>
                <a:latin typeface="Verdana"/>
              </a:rPr>
              <a:t>News Editing in Editor Mo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pic5_1"/>
          <p:cNvPicPr/>
          <p:nvPr/>
        </p:nvPicPr>
        <p:blipFill>
          <a:blip r:embed="rId1"/>
          <a:stretch/>
        </p:blipFill>
        <p:spPr>
          <a:xfrm>
            <a:off x="4356000" y="2637000"/>
            <a:ext cx="4537080" cy="27320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539640" y="2924280"/>
            <a:ext cx="352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tent editors can add news on pages with the help of a wizar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000" y="1125360"/>
            <a:ext cx="734364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c7ab2"/>
                </a:solidFill>
                <a:latin typeface="Verdana"/>
              </a:rPr>
              <a:t>Developer Mo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32000" y="2276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Developer Mode combines operations on the site setup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ponents setting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ponent template editing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d oth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pic6_1"/>
          <p:cNvPicPr/>
          <p:nvPr/>
        </p:nvPicPr>
        <p:blipFill>
          <a:blip r:embed="rId1"/>
          <a:stretch/>
        </p:blipFill>
        <p:spPr>
          <a:xfrm>
            <a:off x="2484360" y="4005360"/>
            <a:ext cx="427680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86920" y="1268280"/>
            <a:ext cx="6985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c7ab2"/>
                </a:solidFill>
                <a:latin typeface="Verdana"/>
              </a:rPr>
              <a:t>Native UTF-8 Sup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92360" y="2565360"/>
            <a:ext cx="43056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Bitrix Site Manager can be installed with UTF-8 support that enables you to work comfortably in many languag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TF-8 support allows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crea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g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and fully suppor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g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various language packages in Arabic, Chinese, Japanese, and other languag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06"/>
          <p:cNvPicPr/>
          <p:nvPr/>
        </p:nvPicPr>
        <p:blipFill>
          <a:blip r:embed="rId1"/>
          <a:stretch/>
        </p:blipFill>
        <p:spPr>
          <a:xfrm>
            <a:off x="900000" y="2205000"/>
            <a:ext cx="209556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1280" y="1341000"/>
            <a:ext cx="7416720" cy="5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c7ab2"/>
                </a:solidFill>
                <a:latin typeface="Verdana"/>
              </a:rPr>
              <a:t>Photo Gallery 2.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4000" y="2852280"/>
            <a:ext cx="360036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ulti-user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mproved user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ultiple photo u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ploa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rivate and public photo galle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ommenting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rat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lide sh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humbnail and full image 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ag cloud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, and mo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photo_icon"/>
          <p:cNvPicPr/>
          <p:nvPr/>
        </p:nvPicPr>
        <p:blipFill>
          <a:blip r:embed="rId1"/>
          <a:stretch/>
        </p:blipFill>
        <p:spPr>
          <a:xfrm>
            <a:off x="1042920" y="1341360"/>
            <a:ext cx="704880" cy="666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alb"/>
          <p:cNvPicPr/>
          <p:nvPr/>
        </p:nvPicPr>
        <p:blipFill>
          <a:blip r:embed="rId2"/>
          <a:stretch/>
        </p:blipFill>
        <p:spPr>
          <a:xfrm>
            <a:off x="4716360" y="2781360"/>
            <a:ext cx="3600720" cy="33336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9"/>
          <p:cNvSpPr/>
          <p:nvPr/>
        </p:nvSpPr>
        <p:spPr>
          <a:xfrm>
            <a:off x="1116000" y="2205000"/>
            <a:ext cx="72928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hoto Gallery 2.0 presents a bunch of improvements in new version. Important features includ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8:27:53Z</dcterms:created>
  <dc:creator>katerina</dc:creator>
  <dc:description/>
  <dc:language>en-US</dc:language>
  <cp:lastModifiedBy>Лисовская</cp:lastModifiedBy>
  <dcterms:modified xsi:type="dcterms:W3CDTF">2008-12-02T10:05:33Z</dcterms:modified>
  <cp:revision>19</cp:revision>
  <dc:subject/>
  <dc:title>Bitrix Site Manager 7.0: Planned Features and Updates</dc:title>
</cp:coreProperties>
</file>